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4825-CBF5-4F5F-93CA-7B14AE37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031C-9E98-45C2-9B47-C9788A00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6958-9B00-4CF2-8A13-047279C5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AEAA-E3C2-4700-BF55-468A2711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EB08-A866-4E22-9150-C552AD13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DAF4-4844-4DA7-86B1-8876E694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0C52-BF9B-4733-88BE-DAB67E69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D021-7256-40FF-B3BB-7CD16D9C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916C-D33E-4129-9F59-AC2D210A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5F5B-C7E6-4A85-B3D7-E27C44D7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990B-8DDE-4214-A118-F2D8D75D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6EF5-C11A-435F-9760-834F9FC3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8FAD-B433-4FD0-BCBC-214939636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Great Depres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 of Great 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 Much Cred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Many people bought too much on credit - including stocks. When the stock market crashed (partly due to this credit buying), people were in debt and sold their personal belongings or had their half paid-off possessions reposse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riffs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ountries put taxes on goods imported from Canada making our products too expensive to bu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 Production and Expans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Companies expanded their industries but didn't get the demand for goods and services then were forced to fire workers and diminish cos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pendence on the United Stat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Due to the dependency Canada had on the U.S., when an economic depression hit the States, Canada was thrust into one as we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1933 30% of the work force was unempl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were less “well off” in the 1920’s faced starvation in some parts of Ca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made do with without luxuries or ext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 Minister R. B. Bennett brought in “make work” projects and other social programs to put people to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ed to the beginning of Canada’s social programs such as Welfare, Employment Insu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stage for World War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80880" y="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Roaring 20’s” and “The Dirty Thirties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differences between the 1920’s and 1930’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ree examples from the research you did on the 1920’s and compare to the 193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“entertainment “between the decades.  What were the differences in attitude and the ability to take part in leisure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h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ing conditions – qual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 words  paragraphs an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23:16:25Z</dcterms:created>
  <dc:creator>NBDOE</dc:creator>
  <dc:description/>
  <dc:language>en-US</dc:language>
  <cp:lastModifiedBy>DT06</cp:lastModifiedBy>
  <dcterms:modified xsi:type="dcterms:W3CDTF">2010-02-17T16:19:35Z</dcterms:modified>
  <cp:revision>11</cp:revision>
  <dc:subject/>
  <dc:title>Causes of Depression</dc:title>
</cp:coreProperties>
</file>